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4D1-7FE5-43F4-89ED-6A6BD983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872-4FEF-4C99-8481-45B9833C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DAA-4918-4CD3-9393-B5259A45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409-99C6-40CE-8542-D305E526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841D-57BF-4069-8CD8-0B63F9CF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6FE7-B536-4283-8D24-DF68C92E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C8CE-ADE6-4E84-8BC2-7891A19F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3D3F-8AF1-44A8-928C-C9A2896D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DC1B-E574-42F7-A915-D0F2AEC5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F772-A5B8-4B26-90F0-6A32AFF4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4AD0-43D0-494B-81BC-7918D8E7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73F-0B83-4EC3-AF4C-4A1B3483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742C-C53C-4EB3-91A4-FFBBDB53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C71A-C2D7-430A-A6FC-C709CD02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C356-B928-4CC3-8EFC-F7DAA1ED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31C4-A46E-496B-9D2B-01F4B8D0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5869-1CFA-442E-8B9B-2BD875B2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4D01E-C3C6-4761-892D-4316E7AB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ABEE6-2609-453A-9A98-A4BAFDD6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A4B17-2C45-43D3-9DED-A75DD3E3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545F8-B401-42A6-A79C-A3D42E8F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DE5B7-E57D-405C-BCF4-FCACF425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655-8A51-46E3-8E3B-5112CDFB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E55FF-B01C-4D39-9192-968FE77A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D6BA-A4DD-418E-AA23-3A90C180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16A45-7DD9-4294-AE67-ED329D05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A904-66CC-4C04-A024-E0717CEE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26E62-D5DA-432C-964D-145BBCFF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D3CCB-1116-473D-B2FA-22C60097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04ABD-5E2D-48E9-99BE-162C3481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AFCB9-136B-455A-AEED-FDB13635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77EC0-0057-4E78-9856-F96B06DD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39702-BECC-4877-9F65-385B448C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AC0-D4E5-4796-8B2E-AB270A33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DADCA-E81B-4F67-B12B-52E3B89A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9C8BB-7889-4E3A-BE8D-20784B23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776ED-A6C0-40FA-B6C8-A9242FDF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E8E2D-0892-4157-B57A-8B4FC2A4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AD3D6-CFFF-466D-8A73-7FA57C15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8D9F7-AB4E-4F03-A5FE-CA2A7102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0BAA3-AA9B-4AF8-BC13-F2CD3EFB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B6E56-D6AB-474C-8B65-0DD6C171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D8055-81BD-4354-9263-65B6CC39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8EA-F9D9-4EEE-863C-4C5AD193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F67-C663-487E-A48E-4B7B5901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F8E-3EE0-4866-8714-09B7B1CA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7B2-D784-474A-A14A-4B2E6C78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93F-F692-48E6-BE28-1DC9E0D7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6053-48BA-46B8-B0F5-09F5D803CB3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002B-A206-4334-89C4-D33A2522068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4C99-4D1C-45D6-937C-29F1545BA38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7257-20E6-48DD-AA72-C431645CBA8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240" y="4038480"/>
            <a:ext cx="56372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745"/>
                </a:solidFill>
                <a:latin typeface="Trebuchet MS"/>
              </a:rPr>
              <a:t>Manufacturing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212760" y="1530360"/>
            <a:ext cx="7656480" cy="343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785960" y="3724200"/>
            <a:ext cx="7169040" cy="3724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457200" y="5335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Kareem is the only one who has an in depth understanding of the troubleshooting the syst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Accountability and Adaptability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Creativity and Intellectual Curiosity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Problem Identification, Formulation and Solution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33520" y="121896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Tw Cen MT"/>
              </a:rPr>
              <a:t>Self-Direction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533520" y="1143000"/>
            <a:ext cx="77724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8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Tw Cen MT"/>
              </a:rPr>
              <a:t>Social Responsibility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6:48:18Z</dcterms:created>
  <dc:creator>cay</dc:creator>
  <dc:description/>
  <dc:language>en-US</dc:language>
  <cp:lastModifiedBy>ella</cp:lastModifiedBy>
  <dcterms:modified xsi:type="dcterms:W3CDTF">2012-07-04T13:32:12Z</dcterms:modified>
  <cp:revision>10</cp:revision>
  <dc:subject/>
  <dc:title>Scenario - 2</dc:title>
</cp:coreProperties>
</file>